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39515"/>
        <c:axId val="24702578"/>
      </c:barChart>
      <c:catAx>
        <c:axId val="77939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2578"/>
        <c:crosses val="autoZero"/>
        <c:auto val="1"/>
        <c:lblAlgn val="ctr"/>
        <c:lblOffset val="100"/>
        <c:noMultiLvlLbl val="0"/>
      </c:catAx>
      <c:valAx>
        <c:axId val="24702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39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A39-E217-41B9-AE2E-57FDE186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3B1-5412-4FAF-B666-B6D6DC7B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008-216D-4A0A-9420-372F1A45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CB7-407B-41CD-A191-B5B20210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82B-D98E-4E7D-BE83-73E33A5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DA7-FD18-4FC1-85AF-DB4A238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CE3-1C6D-4A95-A7C9-303FA55B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AF4-E549-4A33-BE35-42D3CA8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BCA-E279-407F-B8C4-A1105F1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E56-93EE-418F-AE41-F038104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6DD-883D-4C3B-A208-F55DFFE5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7DC-3FA9-4BAD-9F12-0BE9530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055B-DCFE-4173-B00E-447CBF3C10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