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231579"/>
        <c:axId val="65412876"/>
      </c:barChart>
      <c:catAx>
        <c:axId val="332315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412876"/>
        <c:crosses val="autoZero"/>
        <c:auto val="1"/>
        <c:lblAlgn val="ctr"/>
        <c:lblOffset val="100"/>
        <c:noMultiLvlLbl val="0"/>
      </c:catAx>
      <c:valAx>
        <c:axId val="654128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2315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86D6-DC10-431B-8384-1A0300CB7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EEB8-8231-4CE3-8DD6-AD1D01054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08FA-B15D-4103-8D9E-055078746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841A-F256-4876-9D78-7CA3037AB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3052-5C9E-4135-B62F-C7CE12C68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FBF4-4A98-4925-9EFC-F1AB89787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2234-CE1C-41C4-9680-A2E899E23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84F9-FE41-4B3C-A72D-68AFDF897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9471-C0AE-4FA6-AA88-DEFBA6932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8D79-741B-497D-A179-63314A8E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7007-7B90-49B6-BED3-BC80249AB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5976-789F-45B6-8BF5-127ED472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E4C102-B522-4720-A828-E46853FAE05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