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00699"/>
        <c:axId val="82904736"/>
      </c:barChart>
      <c:catAx>
        <c:axId val="67800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04736"/>
        <c:crosses val="autoZero"/>
        <c:auto val="1"/>
        <c:lblAlgn val="ctr"/>
        <c:lblOffset val="100"/>
        <c:noMultiLvlLbl val="0"/>
      </c:catAx>
      <c:valAx>
        <c:axId val="82904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00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BF5-0942-4E5A-B935-645EE0D4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014-F792-4CBC-9258-41F7D607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0BD-2E94-4B7C-B1B0-ACC25B27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97B-0286-4FD8-9F40-F242F1F2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E9F-BE6F-4AE2-9DC7-BAA841B2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6CC-FB9D-4CCF-AE6D-B2DD269F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5C9-4481-4087-85DD-0715BA32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C7F-E09F-4798-96EB-EEA9D504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978A-4376-4D38-B886-F4D62D4A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DCE-BA3E-4E44-81E4-4DE0C340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E79-61D5-419E-ADF3-BE420DC3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B0C-7AF4-4476-97D6-412F1B8A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61FCD-699E-47ED-BC12-56984CA0B2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