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41283"/>
        <c:axId val="98167680"/>
      </c:barChart>
      <c:catAx>
        <c:axId val="11541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7680"/>
        <c:crosses val="autoZero"/>
        <c:auto val="1"/>
        <c:lblAlgn val="ctr"/>
        <c:lblOffset val="100"/>
        <c:noMultiLvlLbl val="0"/>
      </c:catAx>
      <c:valAx>
        <c:axId val="98167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41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05A-0CD4-4C6E-BEC7-C5DC959C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385-E006-43EC-BD1B-723AEAC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9BF-7EE5-484F-9FB8-F63CDEB2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111-58F4-44BC-9621-1415980F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42A-6F5A-4FA2-8F84-A1E22D25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943-F305-4433-9232-E8FB3C90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049-7198-4AF6-A3A2-801B37AC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E1F-0314-4D59-BFD0-E5FBBBB1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BE3-39D4-4F5A-AAB6-9952FD14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2BD-87EE-4EEB-B5AF-6A95A23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BDA-404E-40B8-A285-64C3C8C0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68D-FFD4-4888-80DD-354430A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A7A8D-4EEF-494B-B3A9-B6AD791C1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