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9832"/>
        <c:axId val="87456473"/>
      </c:barChart>
      <c:catAx>
        <c:axId val="5689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56473"/>
        <c:crosses val="autoZero"/>
        <c:auto val="1"/>
        <c:lblAlgn val="ctr"/>
        <c:lblOffset val="100"/>
        <c:noMultiLvlLbl val="0"/>
      </c:catAx>
      <c:valAx>
        <c:axId val="87456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9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7F3-F167-43B8-819E-6C71FC3D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EE0-7C98-4F6E-A7A3-26C3B8BE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C3E-F8E3-44DD-A4AB-8843A816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47B-C358-4493-8CF7-2BE8B176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B96-2A29-45B2-BB4E-D93E153F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43E-C0D7-43BD-ACAD-41539067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390-5080-428A-A3BD-0BECF9D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E6F-D086-44EF-A7FB-84C651D6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60E-8042-49E8-A8C8-313B5EB6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B64-9324-4305-B2F0-F5BB49AC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933-CD8C-4E2E-BCC5-774529A0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FCA-34A1-4993-8793-0AE3459F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91307-52F6-46BC-A2A0-72D1F6A377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