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920164"/>
        <c:axId val="3907510"/>
      </c:barChart>
      <c:catAx>
        <c:axId val="299201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7510"/>
        <c:crosses val="autoZero"/>
        <c:auto val="1"/>
        <c:lblAlgn val="ctr"/>
        <c:lblOffset val="100"/>
        <c:noMultiLvlLbl val="0"/>
      </c:catAx>
      <c:valAx>
        <c:axId val="39075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201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4C1E-A3D3-4D36-9671-CAD0A9910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37B4-BBB9-4EB5-B83D-EB1796C1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4348-8B6D-4416-8C5E-8DA495053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BA60-1A83-4693-88E3-24EC32F30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894B-74B0-4CEE-AD95-08328BDD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3884-B514-471A-8AD4-F27F9026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6FF4-FB00-47A4-B67F-B676035A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B808-FE0D-4755-8231-1016F891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1FC9-9BE4-48F7-AC03-A3AEA0C7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055A-C855-47C1-98F6-D8CCB92E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5261-5CC4-462B-9B3E-1EBE66BE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3C2C-0D4F-4652-A92A-50B632C0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67A53-07D3-46BE-A1DE-9368E76975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