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62510"/>
        <c:axId val="47275937"/>
      </c:barChart>
      <c:catAx>
        <c:axId val="15162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75937"/>
        <c:crosses val="autoZero"/>
        <c:auto val="1"/>
        <c:lblAlgn val="ctr"/>
        <c:lblOffset val="100"/>
        <c:noMultiLvlLbl val="0"/>
      </c:catAx>
      <c:valAx>
        <c:axId val="47275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2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604-A88A-4256-8D60-3CD6EA45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74B-BF62-488A-83E2-39A4BA52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7FD-BF44-4386-BE0E-79C1E2AD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ADC-0964-4C83-96E4-7CC20D2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AC3-6E5A-48BF-832F-752B5786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C02-DD8E-463D-8CDA-6E1EC987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CB1-A6C4-4EBE-976F-E6EFF4BE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F21-7EAE-4E24-B47E-9C075D8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278-8E42-4472-AA6C-ACAC168D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F13-86A0-4580-B500-4E88268E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89B-C4DA-4637-AA5E-75A68CA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667-A73C-4B80-A527-A39AA7F6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3AB06-C64D-47CC-9AB6-14992FA000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