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63518"/>
        <c:axId val="89062115"/>
      </c:barChart>
      <c:catAx>
        <c:axId val="51863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62115"/>
        <c:crosses val="autoZero"/>
        <c:auto val="1"/>
        <c:lblAlgn val="ctr"/>
        <c:lblOffset val="100"/>
        <c:noMultiLvlLbl val="0"/>
      </c:catAx>
      <c:valAx>
        <c:axId val="89062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3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F86-145F-4FB0-9544-8C08822A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70A-3A70-4415-A0AE-CB239E4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922-664D-4E94-969B-CF630849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7D0-7206-4192-88A3-6F73B13B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D62-3B4F-4184-B0E2-2B842A1D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17D-7282-4166-B8DE-B71B9253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805-0D6B-49F3-936B-0C948E94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CEC-2E2F-4E41-B576-64AD5EDA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DC2-CDE0-491A-A237-00A3327C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74C-B25E-4ECF-A831-420633F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E5D-9165-451D-B540-E52DEFFB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78A-AF5D-47CD-9FA7-41AE6A7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E399A-8F47-454E-8E53-A0682C4E0B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