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83768"/>
        <c:axId val="36169424"/>
      </c:barChart>
      <c:catAx>
        <c:axId val="52183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69424"/>
        <c:crosses val="autoZero"/>
        <c:auto val="1"/>
        <c:lblAlgn val="ctr"/>
        <c:lblOffset val="100"/>
        <c:noMultiLvlLbl val="0"/>
      </c:catAx>
      <c:valAx>
        <c:axId val="36169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83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EE5-6653-4C15-A304-68465190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4CD-750E-4EE7-BD28-D39FE426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D70-3682-4D26-A5C1-5F435931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858-CB99-4F04-9A78-5660CC99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01E-F651-42F4-BEBF-B1E9035C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FAD-9CD6-486F-B700-A40E807A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5C1-A16F-4684-B877-494674B8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50A-9B19-4684-B8F6-500659AD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DAD-D8EE-4708-92D5-EDA8AB56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B9D-2C12-4E67-889B-D0FE8D37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925-2127-4A31-8971-D232BDC2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DCD-D60B-4C65-809C-DE1815E5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F62D4-9A5D-44D3-A3DE-3FF8A2824B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