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37081"/>
        <c:axId val="93367072"/>
      </c:barChart>
      <c:catAx>
        <c:axId val="57737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67072"/>
        <c:crosses val="autoZero"/>
        <c:auto val="1"/>
        <c:lblAlgn val="ctr"/>
        <c:lblOffset val="100"/>
        <c:noMultiLvlLbl val="0"/>
      </c:catAx>
      <c:valAx>
        <c:axId val="933670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37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4DC7-DBC4-4235-B491-F76A4929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9A5-A1B8-488C-82FE-A6696207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D3B-CEE2-44D7-B03F-B50A3156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1B21-3CEB-4ED5-95E1-8DC5E900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877-F104-4C8B-A50A-DFE24FE0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FFA-BB15-4577-AFB1-407EA3EE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CC5-B1AF-4BC2-9922-DE4BA7FC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769-3DE3-4BA7-A608-D414DB0B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4F2-1E62-4A75-8FF4-19736BDC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8CE-E295-493F-8202-4FE80C19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EBF-EF9C-4578-BE35-C1618D90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EAA-34AB-472E-9838-33DBF778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ED007-A8CC-4CD9-AB06-5684625571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