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86254"/>
        <c:axId val="58048939"/>
      </c:barChart>
      <c:catAx>
        <c:axId val="19186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48939"/>
        <c:crosses val="autoZero"/>
        <c:auto val="1"/>
        <c:lblAlgn val="ctr"/>
        <c:lblOffset val="100"/>
        <c:noMultiLvlLbl val="0"/>
      </c:catAx>
      <c:valAx>
        <c:axId val="58048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86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0C9-7CDD-4D5A-A4EB-E11EB37C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BF4-A5E4-4D93-A40B-643D6BB5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1C8-7063-4205-A324-6077AEF6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952-5A9A-44B6-BBFC-0244B5E6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CE0-2A2C-4449-A781-B411EE9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179-FD74-4CF2-BE4B-25FE2B17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F09-7DFC-4ABF-AE96-5E134A4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9FE-4DDB-4C52-8260-12806BC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C70-13C2-42AE-83C5-064E67B2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8E9-77FC-4B45-8BAC-EC2E65E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390-5D18-4FB1-92C1-5D3A620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D8C-219D-423D-8DC8-690E794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25F7F-0066-4484-83EE-E6727BF4BE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