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48962"/>
        <c:axId val="64968223"/>
      </c:barChart>
      <c:catAx>
        <c:axId val="20148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8223"/>
        <c:crosses val="autoZero"/>
        <c:auto val="1"/>
        <c:lblAlgn val="ctr"/>
        <c:lblOffset val="100"/>
        <c:noMultiLvlLbl val="0"/>
      </c:catAx>
      <c:valAx>
        <c:axId val="64968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8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1C5-C112-4525-ADAF-5267B0B0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9F4-6BD8-4A5E-A363-601F4EF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68F-C0E9-454F-AA40-774068A6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385-B07F-4AF6-B196-E57D1A0F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718-C5F7-4A31-8B5C-F4D2F2E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B44-C4C7-496C-A4DD-A25BD5D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8C6-A751-4797-BC2F-EBED7BF5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2C3-EB78-4127-BB21-1FBC65E3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B13-2036-44CA-9BAC-7F96F19B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78E-D5E2-4001-83AC-4E4389A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A7A-39ED-4040-8FE7-5C8E4B1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5F2-22A9-4C8C-A1F6-D74FCE5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7EE7-FD7C-466D-948A-E15DB0FD9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