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6289"/>
        <c:axId val="68259731"/>
      </c:barChart>
      <c:catAx>
        <c:axId val="40116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9731"/>
        <c:crosses val="autoZero"/>
        <c:auto val="1"/>
        <c:lblAlgn val="ctr"/>
        <c:lblOffset val="100"/>
        <c:noMultiLvlLbl val="0"/>
      </c:catAx>
      <c:valAx>
        <c:axId val="68259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6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608-D7BC-4EB6-A898-A38450A8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692-3BD9-4852-8F6D-0DC365C4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2C3-0D32-49F8-9170-3E4A1644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6EC-5986-456C-B55B-7124AE95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1FF-3B2D-4DC1-9A80-F16FB909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6BC-B994-41F1-AA41-F9232EAD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37C-31C6-4B4E-B817-E223AA44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CEA-4D9B-47C4-8C15-B18EC2A1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062-B3E1-4430-BFCF-20C715A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49D-693A-45B1-87B3-4DCAB9C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FBA-144B-4A73-8A87-1FE548D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653-B1DB-42D5-9EEE-DA458C8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954DE-A194-4856-B515-16ABDD293A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