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134072"/>
        <c:axId val="86395411"/>
      </c:barChart>
      <c:catAx>
        <c:axId val="901340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395411"/>
        <c:crosses val="autoZero"/>
        <c:auto val="1"/>
        <c:lblAlgn val="ctr"/>
        <c:lblOffset val="100"/>
        <c:noMultiLvlLbl val="0"/>
      </c:catAx>
      <c:valAx>
        <c:axId val="863954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1340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F733-1A75-4A71-935C-2D53BD208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DFF0-B5A5-44BC-91B6-F1887645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8F6B-C114-4206-9BCE-3EAC99615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BA37-E97B-410D-8427-1C7CA1081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995B-9AB9-40D6-AA9C-525D2A97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0CF4-B4AA-4366-9D2C-F9496F19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1332-ABD6-41B1-AD50-A0628186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3A70-C21E-4E1F-8E18-C56E048D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287F-D04E-41CE-82FE-E747D74F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E497-7144-4F82-A9A9-F25E2F71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58C4-BF1C-4517-9E8B-BECB73AE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8626-89E2-40B0-A47E-4A98DB4E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A5F78F-6B21-4F63-ABF1-20EA4C35AC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