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07192"/>
        <c:axId val="624960"/>
      </c:barChart>
      <c:catAx>
        <c:axId val="53407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960"/>
        <c:crosses val="autoZero"/>
        <c:auto val="1"/>
        <c:lblAlgn val="ctr"/>
        <c:lblOffset val="100"/>
        <c:noMultiLvlLbl val="0"/>
      </c:catAx>
      <c:valAx>
        <c:axId val="624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07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AE1-9FEB-435D-BA7F-3DF22447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3D0-6B4A-4C72-9492-F517B59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FFC-5A8B-47E6-ADE6-323DA4B2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FE4-C38A-43EA-8E1F-B080DCC3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A18-D729-44A3-85FD-B8F8F728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15C-03B5-495F-89E7-14303BB3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F3A-70FE-4461-89B4-911F1F04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6B6-DF5F-41F0-8866-C44651E0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4B3-7F62-43A7-BDE1-C5A7C136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2C5-70B3-4B3D-94DA-91AA5DB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AC0-F956-4ACF-94D8-E462001D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679-FF1D-4DE7-93A8-EE308242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08AFC-F702-4CE2-A156-0BB216AC69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