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07318"/>
        <c:axId val="33088286"/>
      </c:barChart>
      <c:catAx>
        <c:axId val="86507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8286"/>
        <c:crosses val="autoZero"/>
        <c:auto val="1"/>
        <c:lblAlgn val="ctr"/>
        <c:lblOffset val="100"/>
        <c:noMultiLvlLbl val="0"/>
      </c:catAx>
      <c:valAx>
        <c:axId val="33088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7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042-DEB1-41DB-967A-AE1FB8FC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E43-AB5C-4066-B2C8-0607B92B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CFE-6C81-4848-B33B-F8708695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BD6-81FF-4A0C-B49E-738E835B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E28-197B-44C3-B1AE-5F477110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0ED-690F-4FFD-8B17-F364ECE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73-4AA6-4191-914B-336F62EC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D2D-DABB-47B4-995E-C87873C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7C3-45D7-43D4-9E41-DA96FA4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D3F-D5BD-43F7-9675-EFF66B2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D13-F733-4B07-8448-2B1119B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452-420D-4503-8A74-63FA6157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B128E-B27D-4E77-838A-437333AA07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