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18590"/>
        <c:axId val="46518246"/>
      </c:barChart>
      <c:catAx>
        <c:axId val="57418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8246"/>
        <c:crosses val="autoZero"/>
        <c:auto val="1"/>
        <c:lblAlgn val="ctr"/>
        <c:lblOffset val="100"/>
        <c:noMultiLvlLbl val="0"/>
      </c:catAx>
      <c:valAx>
        <c:axId val="4651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8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A94-AE1A-4B0A-AD60-D704EB23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D63-6755-4E5B-AA08-FA096A7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43E-C8C3-418A-866D-5CFDF0A4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FFB-0156-4F15-8C62-01E7C0EA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D26-1951-48D6-95A5-D8C40EC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5E9-D084-45A9-80E9-61A48F01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AD2-8C14-488B-B7B5-342560BA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789-B375-4FA7-97E8-44754183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3CF-6340-4C1B-8302-142E6A7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BAD-18F5-4434-9073-D9A9657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EDF-3A13-4E42-8DDB-D8877478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D34-3C6F-4FD1-9303-50C754A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FE12B-B98E-4730-81B0-58FC799FC9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