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45148"/>
        <c:axId val="26419744"/>
      </c:barChart>
      <c:catAx>
        <c:axId val="40045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9744"/>
        <c:crosses val="autoZero"/>
        <c:auto val="1"/>
        <c:lblAlgn val="ctr"/>
        <c:lblOffset val="100"/>
        <c:noMultiLvlLbl val="0"/>
      </c:catAx>
      <c:valAx>
        <c:axId val="26419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5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B91-DD2F-4B9A-8BFC-0F7B910F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177-22B9-4306-A4BA-976297E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026-16B4-43B8-B980-5257512E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91C-8D42-4635-923D-9AEA594B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1BC-B225-4CF5-93AD-32F256F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A7A-8D0F-45AE-87BB-629268B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7EE-6DAD-44E5-B070-B292E8EF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89F-DC5D-4FA6-9FAA-260D2D74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CC6-843D-4327-A46B-C173736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DA8-6E45-4E96-8AC4-B04776D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0C5-AC22-4DEC-9747-FF00697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01B-492B-4634-8CB2-B61103D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6C34F-36B8-4E69-9921-6F33CB60D8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