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04134"/>
        <c:axId val="86793115"/>
      </c:barChart>
      <c:catAx>
        <c:axId val="77704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93115"/>
        <c:crosses val="autoZero"/>
        <c:auto val="1"/>
        <c:lblAlgn val="ctr"/>
        <c:lblOffset val="100"/>
        <c:noMultiLvlLbl val="0"/>
      </c:catAx>
      <c:valAx>
        <c:axId val="86793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04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BF8-2E33-4A89-8A81-3F6F91A1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2F7-99DC-4A47-8C24-A98B813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3AC-A8BF-494B-AE33-69353555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819-A33A-45EA-A217-CD790F29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E0D-E7CB-4C62-866D-7479B7E9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B1D-3C05-467E-961E-0420AEFA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C04-DB97-4AE5-A762-AD3D37F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840-9C9D-4B50-90E6-159F63AB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E2E-3C1D-46E4-995D-8A685A71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79C-B1EA-4EEB-9B87-290E0E5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A1A-EABA-45DC-B7AE-52A605C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48E-BCDE-49B3-BCF6-8DD78BD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9BAB3-8CC9-4FAF-9741-500C73DF84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