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46932"/>
        <c:axId val="23429680"/>
      </c:barChart>
      <c:catAx>
        <c:axId val="59146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29680"/>
        <c:crosses val="autoZero"/>
        <c:auto val="1"/>
        <c:lblAlgn val="ctr"/>
        <c:lblOffset val="100"/>
        <c:noMultiLvlLbl val="0"/>
      </c:catAx>
      <c:valAx>
        <c:axId val="23429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46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48E-29B2-4C51-8398-AA046C36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E78-90CF-47CC-B723-F7B16DF2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83E-8586-4C69-B0ED-0A3AE7C5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99F-4D6B-4183-890D-0BB31D5A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FA1-CEB1-4F23-B25C-3D0692DE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446-22A9-400E-B724-01AC4B83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0E2-7885-472A-B04A-BCD90684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3AB-C443-4328-85C6-F4C86CE0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018-539F-434D-B566-824BE18F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708-A860-4162-847C-B6BBD4BD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AB8-1C0B-466B-A553-04532891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BCE-F692-49A0-9689-C4312253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3BD97-C0B4-46EE-8EB2-F57F3D3D6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