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76046"/>
        <c:axId val="1981780"/>
      </c:barChart>
      <c:catAx>
        <c:axId val="84676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1780"/>
        <c:crosses val="autoZero"/>
        <c:auto val="1"/>
        <c:lblAlgn val="ctr"/>
        <c:lblOffset val="100"/>
        <c:noMultiLvlLbl val="0"/>
      </c:catAx>
      <c:valAx>
        <c:axId val="1981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76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433-723E-40BF-A08B-653808E0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8B0-1A03-4D44-8FE8-9BAA23F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0B4-4432-40F1-AD38-56E47D97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DE7-CDA8-4A15-8E02-2C6BF411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33E-DDAE-47E7-A72B-7498A078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E7B-B0C6-4D7F-A5D3-DBA988FF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33F-1F22-4422-AFD3-FBEEC990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B3B-0A27-4E0A-A6B1-F7D8A8D3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7FA-2125-4CCA-B993-FE1C7FD9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0BE-F9F1-4B83-906B-A2F99197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721-ACBB-421F-B213-AF1695AD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C6B-FA70-4CD3-9C82-68627C88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F1EBD-BB36-4B1A-8255-C1FD8FCD0A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