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64568"/>
        <c:axId val="25850703"/>
      </c:barChart>
      <c:catAx>
        <c:axId val="88864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50703"/>
        <c:crosses val="autoZero"/>
        <c:auto val="1"/>
        <c:lblAlgn val="ctr"/>
        <c:lblOffset val="100"/>
        <c:noMultiLvlLbl val="0"/>
      </c:catAx>
      <c:valAx>
        <c:axId val="25850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64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8F1-6B4F-494D-AB60-30E45534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EF4-C77D-450B-87EE-BC6B109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53E-92F4-48CE-A615-5DB767F0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6C8-939F-486C-B350-F6A1E5E9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40A-B09A-4151-B24C-3E07C258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B28-CB23-4A3F-8DB0-81888D91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B8E-A045-4FDF-96D9-70C0A1DB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7F2-04CA-4F61-BF94-4ED715AB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E8B-E388-424A-9153-7C0E37D9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5FD-45DA-4D66-9C27-63B7C618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D56-649A-4677-854D-F5D7811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83B-4A6C-45A7-A07C-028B22F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E62E7-BD0A-48CE-B45A-5098790585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